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0D72F-28DA-4296-89C1-6F592CDB2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10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228600" y="3812040"/>
            <a:ext cx="8610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AA9EC-2AA0-41CF-92FE-79B6EBB99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4201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40760" y="1447920"/>
            <a:ext cx="4201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28600" y="3812040"/>
            <a:ext cx="4201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40760" y="3812040"/>
            <a:ext cx="4201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31595-FAF4-4DAF-B124-8DE3A3E45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277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39920" y="1447920"/>
            <a:ext cx="277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51240" y="1447920"/>
            <a:ext cx="277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228600" y="3812040"/>
            <a:ext cx="277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39920" y="3812040"/>
            <a:ext cx="277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51240" y="3812040"/>
            <a:ext cx="277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4EAD6-5F42-4EB8-A772-C566ED99F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44792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4201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40760" y="1447920"/>
            <a:ext cx="4201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8600" y="228240"/>
            <a:ext cx="8610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4201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0760" y="1447920"/>
            <a:ext cx="4201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3812040"/>
            <a:ext cx="4201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228600" y="144792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79714-88A4-46A3-82BE-4B0F93F21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4201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40760" y="1447920"/>
            <a:ext cx="4201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40760" y="3812040"/>
            <a:ext cx="4201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4201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0760" y="1447920"/>
            <a:ext cx="4201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3812040"/>
            <a:ext cx="8610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10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3812040"/>
            <a:ext cx="8610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4201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0760" y="1447920"/>
            <a:ext cx="4201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3812040"/>
            <a:ext cx="4201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40760" y="3812040"/>
            <a:ext cx="4201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277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39920" y="1447920"/>
            <a:ext cx="277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51240" y="1447920"/>
            <a:ext cx="277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3812040"/>
            <a:ext cx="277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39920" y="3812040"/>
            <a:ext cx="277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51240" y="3812040"/>
            <a:ext cx="277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422BB-729F-4D79-8C47-EA68AC8B9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4201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40760" y="1447920"/>
            <a:ext cx="4201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4A16C-747B-46E3-BD39-47693A47A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5EF6A-5B3F-4F0D-B0E0-5316CDE4A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28600" y="228240"/>
            <a:ext cx="8610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345AB-EE96-4719-89B0-4745F6F3A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4201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40760" y="1447920"/>
            <a:ext cx="4201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228600" y="3812040"/>
            <a:ext cx="4201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16FE2-3ED1-4785-9925-D3B93A842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4201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40760" y="1447920"/>
            <a:ext cx="4201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40760" y="3812040"/>
            <a:ext cx="4201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006BB-71F2-4FF1-AA30-FFE913FF0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4201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40760" y="1447920"/>
            <a:ext cx="4201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28600" y="3812040"/>
            <a:ext cx="8610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DF556-19B6-41F6-9196-DB7E819B0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6019920"/>
            <a:ext cx="9144000" cy="838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228600" y="144792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228240" y="6324480"/>
            <a:ext cx="213372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600" y="6629040"/>
            <a:ext cx="58672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292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148E1-C784-4B46-BB8A-B62740A7F1C1}" type="slidenum"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48320" y="0"/>
            <a:ext cx="44956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120" y="685800"/>
            <a:ext cx="81536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000000"/>
                </a:solidFill>
                <a:latin typeface="Arial"/>
                <a:cs typeface="Al-Hadith1"/>
              </a:rPr>
              <a:t>اللحظات</a:t>
            </a:r>
            <a:r>
              <a:rPr b="0" lang="en-GB" sz="4800" spc="-1" strike="noStrike">
                <a:solidFill>
                  <a:srgbClr val="000000"/>
                </a:solidFill>
                <a:latin typeface="Arial"/>
                <a:ea typeface="Al-Hadith1"/>
              </a:rPr>
              <a:t> </a:t>
            </a:r>
            <a:r>
              <a:rPr b="0" lang="ar-SA" sz="4800" spc="-1" strike="noStrike">
                <a:solidFill>
                  <a:srgbClr val="000000"/>
                </a:solidFill>
                <a:latin typeface="Arial"/>
                <a:cs typeface="Al-Hadith1"/>
              </a:rPr>
              <a:t>الأخيره</a:t>
            </a:r>
            <a:br>
              <a:rPr sz="4800"/>
            </a:b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Arial"/>
                <a:cs typeface="Al-Hadith1"/>
              </a:rPr>
              <a:t>اللحظات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Al-Hadith1"/>
              </a:rPr>
              <a:t> 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  <a:cs typeface="Al-Hadith1"/>
              </a:rPr>
              <a:t>الأخير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104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 algn="r" rtl="1">
              <a:lnSpc>
                <a:spcPct val="15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ثم قال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أيها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الناس إن عبدا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خيره الله بين الدنيا وبين ما عند الله ،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فاختار ما عند الله  فلم يفهم أحد قصده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من هذه الجمله ، وكان يقصد نفسه ، سيدنا أبوبكره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الوحيد الذي فهم هذه الجمله ، فانفجر بالبكاءوعلي نحيبه ووقف وقاطع النبي وقال : فديناك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بآبائنا ، فديناك بأمهاتنا ، فديناء بأولادنا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فديناك بأزواجنا ،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فديناك بأموالنا ، وظل يرددها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Arial"/>
                <a:cs typeface="Al-Hadith1"/>
              </a:rPr>
              <a:t>اللحظات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Al-Hadith1"/>
              </a:rPr>
              <a:t> 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  <a:cs typeface="Al-Hadith1"/>
              </a:rPr>
              <a:t>الأخير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r" rtl="1">
              <a:lnSpc>
                <a:spcPct val="17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فنظر الناس إلي أبوبكر ، كيف يقاطع النبي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فأخذ النبي يدافع عن أبوبكر قائلا : أيها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الناس ، دعوا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أبوبكر ، فما منكم من أحد كان له عندنا من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فضل إلا كافأناه به ، إلا أبوبكر لم أستطع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مكافأته ، فتركت مكافأته إلي الله عز وج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كل الأبواب إلي المسجد تسد إلا باب أبوبكرلا يسد أبدا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...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Arial"/>
                <a:cs typeface="Al-Hadith1"/>
              </a:rPr>
              <a:t>اللحظات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Al-Hadith1"/>
              </a:rPr>
              <a:t> 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  <a:cs typeface="Al-Hadith1"/>
              </a:rPr>
              <a:t>الأخير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 rtl="1">
              <a:lnSpc>
                <a:spcPct val="16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وأخيرا قبل نزوله من المنبر .. بدأ الرسو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بالدعاء للمسلمين قبل الوفاه كآخر دعوات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لهم ، فقال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آواكم الله ، حفظكم الله ، نصركم الله ، ثبتكم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الله ، أيدكم الله  .. وآخر كلمه قالها ،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آخر كلمه موجهه للأمه من علي منبره قبل نزوله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قال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: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أيها الناس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أقرأوا مني السلام كل من تبعني من أمتي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إلي يوم القيامه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.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Arial"/>
                <a:cs typeface="Al-Hadith1"/>
              </a:rPr>
              <a:t>اللحظات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Al-Hadith1"/>
              </a:rPr>
              <a:t> 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  <a:cs typeface="Al-Hadith1"/>
              </a:rPr>
              <a:t>الأخير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r" rtl="1">
              <a:lnSpc>
                <a:spcPct val="13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وحمل مرة أخري إلي بيته . وهو هناك دخل عليه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عبد الرحمن بن أبي بكر وفي يده سواك ، فظ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النبي ينظر الي السواك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ولكنه لم يستطيع ان يطلبه من شدة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مرضه . ففهمت السيده عائشه من نظرة النبي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فأخذت السواك من عبد الرحمن ووضعته في فم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النبي ، فلم يستطع أن يستاك به ، فأخذته من النبي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وجعلت تلينه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بفمها وردته للنبي مره أخري حتي يكون طريا عليه فقالت : كان آخر شئ دخل جوف النبي ه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ريقي ، فكان من فضل الله علي أن جمع بين ريقي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وريق النبي قبل أن يموت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Arial"/>
                <a:cs typeface="Al-Hadith1"/>
              </a:rPr>
              <a:t>اللحظات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Al-Hadith1"/>
              </a:rPr>
              <a:t> 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  <a:cs typeface="Al-Hadith1"/>
              </a:rPr>
              <a:t>الأخير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 algn="ctr" rtl="1">
              <a:lnSpc>
                <a:spcPct val="14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تقول السيده عائشه : ثم  دخلت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فاطمه بنت النبي ، فلما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دخلت بكت ، لأن النبي لم يستطع القيام ، لأنه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كان يقبلها بين عينيها كلما جاءت إليه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..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فقا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النبي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ادنو مني يا فاطمه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فحدثها النبي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في أذنها ، فبكت أكثر . فلما بكت قال لها النبي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ادنو مني يا فاطمه ) فحدثها مره أخري في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اذنها ، فضحكت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Arial"/>
                <a:cs typeface="Al-Hadith1"/>
              </a:rPr>
              <a:t>اللحظات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Al-Hadith1"/>
              </a:rPr>
              <a:t> 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  <a:cs typeface="Al-Hadith1"/>
              </a:rPr>
              <a:t>الأخير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14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بعد وفاته سئلت ماذا قا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لك النبي ، فقالت : قال لي في المره الأولي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يا فاطمه ، إني ميت الليله ، فبكيت ، فلما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وجدني أبكي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قال :( يا فاطمه ، أنتي أول أهلي لحاقا بي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فضحكت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Arial"/>
                <a:cs typeface="Al-Hadith1"/>
              </a:rPr>
              <a:t>اللحظات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Al-Hadith1"/>
              </a:rPr>
              <a:t> 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  <a:cs typeface="Al-Hadith1"/>
              </a:rPr>
              <a:t>الأخير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 algn="r" rtl="1">
              <a:lnSpc>
                <a:spcPct val="12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تقول السيده عائشه : ثم قال النبي :( أخرجوامن عندي في البيت ) وقال : ( ادنو مني يا عائشه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فنام النبي علي صدر زوجته ، ويرفع يده للسماء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ويقول : بل الرفيق الأعلي ، بل الرفيق الأعلي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تقول السيده عائشه : فعرفت أنه يخير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...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سيدنا جبريل دخل علي النبي وقال : يارسول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الله ، ملك الموت بالباب ، يستأذن أن يدخ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عليك ، وما استأذن علي أحد من قبلك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.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فقا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النبي : إءذن له يا جبريل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فدخل ملك الموت علي النبي وقال : السلام عليك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يا رسول الله ، أرسلني الله أخيرك ، بين البقاء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في الدنيا وبين أن تلحق بالله . فقال النبي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بل الرفيق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الأعلي ، بل الرفيق الأعلي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Arial"/>
                <a:cs typeface="Al-Hadith1"/>
              </a:rPr>
              <a:t>اللحظات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Al-Hadith1"/>
              </a:rPr>
              <a:t> 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  <a:cs typeface="Al-Hadith1"/>
              </a:rPr>
              <a:t>الأخير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lnSpc>
                <a:spcPct val="17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ووقف ملك الموت عند رأس النبي وقال : أيتها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الروح الطيبه ، روح محمد بن عبد الله ، أخرجي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إلي رضا من الله و رضوان ورب راض غير غضبان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تقول السيده عائشه : فسقطت يد النبي وثقلت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رأسه في صدري ، فعرفت أنه قد مات ... فلم أدري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ما أفعل ، فما كان مني غير أن خرجت من حجرت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Arial"/>
                <a:cs typeface="Al-Hadith1"/>
              </a:rPr>
              <a:t>اللحظات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Al-Hadith1"/>
              </a:rPr>
              <a:t> 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  <a:cs typeface="Al-Hadith1"/>
              </a:rPr>
              <a:t>الأخير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0" algn="r" rtl="1">
              <a:lnSpc>
                <a:spcPct val="12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وفتحت بابي الذي يطل علي الرجال في المسجد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وأقول مات رسول الله ، مات رسول الله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.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تقو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فانفجر المسجد بالبكاء . فهذا علي بن أبي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طالب أقعد ، وهذا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عثمان بن عفان كالصبي يؤخذ بيده يمني ويسري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وهذا عمر بن الخطاب يرفع سيفه ويقول من قا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أنه قد مات قطعت رأسه ، إنه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ذهب للقاء ربه كما ذه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موسى للقاء ربه وسيعود ويقتل من قال أنه قد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مات . أما أثبت الناس فكان أبوبكر الصديق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رضي الله عنه دخل علي النبي واحتضنه وقا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وآآآ خليلاه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وآآآ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صفياه ، وآآآ حبيباه ، وآآآ نبياه . وقبل النبي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وقال : طبت حيا وطبت ميتا يا رسول الله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.</a:t>
            </a: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Arial"/>
                <a:cs typeface="Al-Hadith1"/>
              </a:rPr>
              <a:t>اللحظات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Al-Hadith1"/>
              </a:rPr>
              <a:t> 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  <a:cs typeface="Al-Hadith1"/>
              </a:rPr>
              <a:t>الأخير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1048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 algn="ctr" rtl="1">
              <a:lnSpc>
                <a:spcPct val="10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ثم خرج يقول : من كان يعبد محمدا فإن محمدا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قد مات ، ومن كان يعبد الله فإن الله حي لا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يموت ... ويسقط السيف من يد عمر بن الخطاب ،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يقول : فعرفت أنه</a:t>
            </a:r>
            <a:br>
              <a:rPr sz="2800"/>
            </a:b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قد مات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...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ويقول : فخرجت أجري أبحث عن مكان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أجلس فيه وحدي لأبكي وحدي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...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Arial"/>
                <a:cs typeface="Al-Hadith1"/>
              </a:rPr>
              <a:t>اللحظات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Al-Hadith1"/>
              </a:rPr>
              <a:t> 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  <a:cs typeface="Al-Hadith1"/>
              </a:rPr>
              <a:t>الأخير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 algn="r" rtl="1">
              <a:lnSpc>
                <a:spcPct val="13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r" rtl="1">
              <a:lnSpc>
                <a:spcPct val="13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قبل الوفاة ، آخر شئ للرسول كان حجة الوداع، وبعدها نزل قول الله عز وجل 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”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اليوم أكملت لكم دينكم وأتممت عليكم نعمتي ورضيت لكم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الاسلام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دينا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  ..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فبكي أبوبكر الصديق عند سماعه هذه الآيه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فقالوا له مايبكيك يا أبوبكر انها آيه مثل كل آيه نزلت علي الرسول .. فقال : هذا نعي رسول الله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Arial"/>
                <a:cs typeface="Al-Hadith1"/>
              </a:rPr>
              <a:t>اللحظات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Al-Hadith1"/>
              </a:rPr>
              <a:t> 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  <a:cs typeface="Al-Hadith1"/>
              </a:rPr>
              <a:t>الأخير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104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4000"/>
          </a:bodyPr>
          <a:p>
            <a:pPr marL="185040" indent="0" algn="ctr" rtl="1">
              <a:lnSpc>
                <a:spcPct val="13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ودفن النبي  والسيده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فاطمه تقول : أطابت أنفسكم أن تحثوا التراب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علي وجه النبي ... ووقفت تنعي النبي وتقول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يا أبتاه ، أجاب ربا دعاه ، يا أبتاه ، جنة</a:t>
            </a:r>
            <a:br>
              <a:rPr sz="2800"/>
            </a:b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الفردوس مأواه ، يا أبتاه ، الي جبريل ننعاه</a:t>
            </a: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Arial"/>
                <a:cs typeface="Al-Hadith1"/>
              </a:rPr>
              <a:t>اللحظات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Al-Hadith1"/>
              </a:rPr>
              <a:t> 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  <a:cs typeface="Al-Hadith1"/>
              </a:rPr>
              <a:t>الأخير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 algn="ctr" rtl="1">
              <a:lnSpc>
                <a:spcPct val="13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تري ، هل ستترك حياتك كما هي بعد وصايا رسول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الله صلي الله عليه وسلم لك في آخر كلمات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له ؟؟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لا أدري ماذا ستفعل كي تصبر علي ابتلاءات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الدنيا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..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Arial"/>
                <a:cs typeface="Al-Hadith1"/>
              </a:rPr>
              <a:t>اللحظات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Al-Hadith1"/>
              </a:rPr>
              <a:t> 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  <a:cs typeface="Al-Hadith1"/>
              </a:rPr>
              <a:t>الأخير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2133720"/>
            <a:ext cx="8610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8000"/>
          </a:bodyPr>
          <a:p>
            <a:pPr marL="164520" indent="0" algn="ctr" rtl="1">
              <a:lnSpc>
                <a:spcPct val="14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رجاء من فضلك وليس امرا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ان اعجبك محتوى الرسالة اعد ارسلها لغيرك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فان الدال على الخير  كفاعله</a:t>
            </a: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Arial"/>
                <a:cs typeface="Al-Hadith1"/>
              </a:rPr>
              <a:t>اللحظات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Al-Hadith1"/>
              </a:rPr>
              <a:t> 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  <a:cs typeface="Al-Hadith1"/>
              </a:rPr>
              <a:t>الأخير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 algn="r" rtl="1">
              <a:lnSpc>
                <a:spcPct val="14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وعاد الرسول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..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وقبل الوفاه ب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ea typeface="Arial"/>
              </a:rPr>
              <a:t>9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ea typeface="Arial"/>
              </a:rPr>
              <a:t> أيام نزلت آخر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ايه من القرآن  واتقوا يوما ترجعون فيه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الي الله ثم توفي كل نفس ما كسبت وهم لا يظلمون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وبدأ الوجع يظهر علي الرسول فقال : أريد أن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أزور شهداء أحد  فذهب الي شهداء أحد ووق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علي قبور الشهداء وقال : السلام عليكم يا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شهداء أحد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Arial"/>
                <a:ea typeface="Arial"/>
              </a:rPr>
              <a:t> أنتم السابقون وإنا إنشاء الله بكم لاحقون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ea typeface="Arial"/>
              </a:rPr>
              <a:t> وإني إنشاء الله بكم لاحق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Arial"/>
                <a:cs typeface="Al-Hadith1"/>
              </a:rPr>
              <a:t>اللحظات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Al-Hadith1"/>
              </a:rPr>
              <a:t> 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  <a:cs typeface="Al-Hadith1"/>
              </a:rPr>
              <a:t>الأخير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just" rtl="1">
              <a:lnSpc>
                <a:spcPct val="15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وأثناء رجوعه من الزياره بكي رسول الله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صلى الله عليه وسلم قالوا ما يبكيك يا رسو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الله ؟ قال : اشتقت الي إخواني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  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، قالوا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أولسنا إخوانك يا رسول الله ؟ قال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: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لا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أنتم أصحابي ، أما إخواني فقوم يأتون من بعدي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يؤمنون بي ولم يرون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just" rtl="1">
              <a:lnSpc>
                <a:spcPct val="15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99"/>
                </a:solidFill>
                <a:latin typeface="Arial"/>
                <a:ea typeface="Arial"/>
              </a:rPr>
              <a:t> . </a:t>
            </a:r>
            <a:r>
              <a:rPr b="1" lang="ar-SA" sz="2800" spc="-1" strike="noStrike">
                <a:solidFill>
                  <a:srgbClr val="333399"/>
                </a:solidFill>
                <a:latin typeface="Arial"/>
                <a:cs typeface="Arial"/>
              </a:rPr>
              <a:t>اللهم أنا نسالك أن نكون منهم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Arial"/>
                <a:cs typeface="Al-Hadith1"/>
              </a:rPr>
              <a:t>اللحظات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Al-Hadith1"/>
              </a:rPr>
              <a:t> 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  <a:cs typeface="Al-Hadith1"/>
              </a:rPr>
              <a:t>الأخير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 algn="r" rtl="1">
              <a:lnSpc>
                <a:spcPct val="15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وعاد الرسول ، وقبل الوفاه ب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ea typeface="Arial"/>
              </a:rPr>
              <a:t> أيام بدأ الوجع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يشتد عليه وكان في بيت السيده ميمونه ، فقا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اجمعوا زوجاتي  ، فجمعت الزوجات ، فقال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النبي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: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أتأذنون لي أن أمرض في بيت عائشه ؟  فقلن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أذن لك يا رسول الله فأراد أن يقوم فما استطاع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فجاء علي بن أبي طالب والفضل بن العباس فحملا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النبي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وخرجوا به من حجرة السيده ميمونه الي حجرة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السيده عائشه فرآه الصحابه علي هذا الحال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لأول مره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Arial"/>
                <a:cs typeface="Al-Hadith1"/>
              </a:rPr>
              <a:t>اللحظات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Al-Hadith1"/>
              </a:rPr>
              <a:t> 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  <a:cs typeface="Al-Hadith1"/>
              </a:rPr>
              <a:t>الأخير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 algn="r" rtl="1">
              <a:lnSpc>
                <a:spcPct val="15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فيبدأ الصحابه في السؤال بهلع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ماذا أحل برسول الله .. ماذا أحل برسول الله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فتجمع الناس في المسجد وامتلأ وتزاحم الناس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عليه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.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فبدأ العرق يتصبب من النبي بغزاره ، فقالت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السيده عائشه : لم أر في حياتي أحد يتصبب عرقابهذا الشكل . فتقول : كنت آخذ بيد النبي وأمسح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بها وجهه لأن يد النبي أكرم وأطيب من يدي. وتقول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: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فأسمعه يقول : لا اله إلا الله ، إن للموت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لسكرات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مره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Arial"/>
                <a:cs typeface="Al-Hadith1"/>
              </a:rPr>
              <a:t>اللحظات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Al-Hadith1"/>
              </a:rPr>
              <a:t> 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  <a:cs typeface="Al-Hadith1"/>
              </a:rPr>
              <a:t>الأخير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 algn="r" rtl="1">
              <a:lnSpc>
                <a:spcPct val="15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فتقول السيده عائشه : فكثر اللغط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أي الحديث في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المسجد اشفاقا علي الرسول فقال النبي : ماهذا؟. فقالوا : يارسول الله ، يخافون عليك . فقا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احملوني إليهم. فأراد أن يقوم فما استطاع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فصبوا عليه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ea typeface="Arial"/>
              </a:rPr>
              <a:t>7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ea typeface="Arial"/>
              </a:rPr>
              <a:t> قرب من الماء حتي يفيق . فحم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النبي وصعد إلي المنبر .. آخر خطبه لرسول الله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و آخر كلمات له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Arial"/>
                <a:cs typeface="Al-Hadith1"/>
              </a:rPr>
              <a:t>اللحظات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Al-Hadith1"/>
              </a:rPr>
              <a:t> 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  <a:cs typeface="Al-Hadith1"/>
              </a:rPr>
              <a:t>الأخير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 algn="r" rtl="1">
              <a:lnSpc>
                <a:spcPct val="14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فقال النبي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:  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أيها الناس ، كأنكم تخافون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علي  فقالوا : نعم يارسول الله . فقال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أيها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الناس ، موعدكم معي ليس الدنيا ، موعدكم معي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عند الحوض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.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والله لكأني أنظر اليه من مقامي هذا . أيها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الناس ، والله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ما الفقر أخشي عليكم ، ولكني أخشي عليكم الدنيا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أن تنافسوها كما تنافسها الذين من قبلكم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فتهلككم كما أهلكتهم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  .</a:t>
            </a: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Arial"/>
                <a:cs typeface="Al-Hadith1"/>
              </a:rPr>
              <a:t>اللحظات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Al-Hadith1"/>
              </a:rPr>
              <a:t> 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  <a:cs typeface="Al-Hadith1"/>
              </a:rPr>
              <a:t>الأخير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1048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 algn="r" rtl="1">
              <a:lnSpc>
                <a:spcPct val="17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ثم قال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أيها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الناس ، الله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الله في الصلاه ، الله الله في الصلاه  بمعني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أستحلفكم بالله العظيم أن تحافظوا علي الصلاه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وظل يرددها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5T18:40:16Z</dcterms:created>
  <dc:creator>NIDHAL JABER</dc:creator>
  <dc:description/>
  <dc:language>en-US</dc:language>
  <cp:lastModifiedBy>ucs</cp:lastModifiedBy>
  <dcterms:modified xsi:type="dcterms:W3CDTF">2006-10-19T07:29:11Z</dcterms:modified>
  <cp:revision>40</cp:revision>
  <dc:subject/>
  <dc:title>اللحظات الأخيره  </dc:title>
</cp:coreProperties>
</file>